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6B5-88E2-45B5-8900-A3DCB8EA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E12-AB25-4E3C-B118-78828AFE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659-440E-4749-A50C-1862A6A9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6FA-026A-48B8-972D-3BC8999E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718-148E-4CE3-9B44-5CF71FB9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C099-AC46-422F-A30A-4BA381E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79AE-2AF9-437E-9E3A-38F4972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740D-DB31-4857-B485-398F3A9C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B92-9D5C-483B-912C-82A29616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1A9-D1E2-435F-AD23-41B902E5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A25F-9CD3-4A31-AA68-4996685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5E0-2008-45FA-8AEC-553C9C3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41DB-AACE-4024-9E1F-1F0DC38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5DB6-5412-494F-8EC3-F7C12AB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D2D-B45D-4B22-9863-9A4EFD9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461A-8324-43BA-9BA8-BD14025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CEEF-A6CB-4D93-8FDC-B2C7ED28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C45D-B26D-4D75-B7CF-DB1CACE6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2B32-211B-4EB9-94EF-FE805691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473E-F78D-4A7F-A68D-F237BF1D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72D5-08E8-4DF6-8364-185D59D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6DD4-261D-4A78-9CE4-F1C56CB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913-8E06-43B3-BBC3-76664F0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E97C-64B7-41DF-B0A5-1074462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1EFA-6812-4D81-9CE8-69C149E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9028-B7F7-4C55-AE0A-99E90FB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C246-DD4D-4936-8CB0-BEF51E9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4E20-CABA-4530-B676-49270DB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A253-525C-40C4-ADE3-5483273C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B3C4-E532-4F88-8E7A-6142491C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795C-241D-4935-94B2-6723F84A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CC12-CFCE-48B2-86D4-F80EFEA9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D49F-A09E-4B01-9B76-4E39EBAE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77A-33A1-45F3-AF98-5EC9287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8C1C-728C-41F8-8E0B-91164FD4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8226-459B-4A0B-8C87-EC5F12C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6493-92C4-443B-A85B-B193EC91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DA14-09F9-42CC-B2F4-2C2073F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3DC6-1339-4A27-86E2-2ABFE37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583D-DE13-45DD-9666-7679E81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4D54-9B03-4A10-B1F1-24D1E62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B203-416B-4791-A1CA-0A980204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9C43-F71C-4E76-B337-E3FD0E01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2FE0-F4CE-4051-9A21-A5AB632E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EC7-2104-49FF-8501-96FC80C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7A86A-9D21-4C3B-A132-0983EF3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8EAD-E949-42A2-A4F1-63B88A10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102A7-382F-4BE2-8175-E73CB5E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323A-5513-4A79-9386-704AEDCB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B79A-24D5-484C-95CA-FEE4021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7952-6474-491C-9EAB-37661AD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8AA2-FCF2-421A-9220-1C8B57CA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3C34-A36B-4845-A9E1-7B6049B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D37A-166A-4452-A72F-EB18E86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8B7D-D408-46D7-B439-B1C8721F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FB7-A86D-47FF-888B-C8A0326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A10F-66AE-4BBF-830B-3F2FE496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E09-9996-45D9-897D-5451AA2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7EF-CC2E-4D3D-A5C1-B953877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67D-F9CF-43C1-8EE7-51E1D01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409-AE05-4912-A92C-7ECB839725C7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tango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tango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nettore 1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7A9E-AF3B-4C99-8E25-88FADD10FEBE}" type="slidenum">
              <a:rPr b="0" lang="it-IT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C2EE-63D6-4415-9E66-0290B5F12C2B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2B25-EB21-4CE7-8643-BAA068031528}" type="slidenum">
              <a:rPr b="0" lang="it-IT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C16-F070-4B1F-AB9E-910EC460BC90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della-cerva-giovanni-battista_(Dizionario-Biografico)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ttore&amp;source=images&amp;cd=&amp;cad=rja&amp;docid=sZZJJP282rPevM&amp;tbnid=5U4GDmlnBeuOzM:&amp;ved=0CAUQjRw&amp;url=http%3A%2F%2Fwww3.varesenews.it%2Farte%2Fil-pittore-che-ando-contro-federico-borromeo-la-grande-monografica-di-daniele-crespi-48065.html&amp;ei=YhmPUZTXE4LdOuz7gcgB&amp;bvm=bv.46340616,d.bGE&amp;psig=AFQjCNGbm4uQyqRQfr4K_xsDjS8HO2pUfw&amp;ust=1368419038458833" TargetMode="External"/><Relationship Id="rId2" Type="http://schemas.openxmlformats.org/officeDocument/2006/relationships/hyperlink" Target="http://www.google.it/url?sa=i&amp;rct=j&amp;q=daniele+crespi+pittore&amp;source=images&amp;cd=&amp;cad=rja&amp;docid=sZZJJP282rPevM&amp;tbnid=5U4GDmlnBeuOzM:&amp;ved=&amp;url=http%3A%2F%2Fwww3.varesenews.it%2Farte%2Fil-pittore-che-ando-contro-federico-borromeo-la-grande-monografica-di-daniele-crespi-48065.html&amp;ei=XhmPUdOlBYnR4QT_sIDIAQ&amp;bvm=bv.46340616,d.bGE&amp;psig=AFQjCNGbm4uQyqRQfr4K_xsDjS8HO2pUfw&amp;ust=1368419038458833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ttore&amp;source=images&amp;cd=&amp;cad=rja&amp;docid=a8Mid3pHL6EdUM&amp;tbnid=exyoPez1C7M1ZM:&amp;ved=0CAUQjRw&amp;url=http%3A%2F%2Fit.wikipedia.org%2Fwiki%2FDaniele_Crespi&amp;ei=9hqPUaHfI4bSObnVgdgH&amp;bvm=bv.46340616,d.bGE&amp;psig=AFQjCNEfY9MUF13Y3cM1Nt5wkY51K_QzJQ&amp;ust=1368419315819435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museopoldipezzoli.it/node/434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mortara/" TargetMode="External"/><Relationship Id="rId2" Type="http://schemas.openxmlformats.org/officeDocument/2006/relationships/hyperlink" Target="http://www.treccani.it/enciclopedia/gaudenzio-ferrari/" TargetMode="External"/><Relationship Id="rId3" Type="http://schemas.openxmlformats.org/officeDocument/2006/relationships/hyperlink" Target="http://www.treccani.it/enciclopedia/milano/" TargetMode="External"/><Relationship Id="rId4" Type="http://schemas.openxmlformats.org/officeDocument/2006/relationships/hyperlink" Target="http://www.treccani.it/enciclopedia/vercelli/" TargetMode="External"/><Relationship Id="rId5" Type="http://schemas.openxmlformats.org/officeDocument/2006/relationships/hyperlink" Target="http://www.treccani.it/enciclopedia/salvio-giuliano/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seopoldipezzoli.it/userfiles/3208.jpg" TargetMode="External"/><Relationship Id="rId2" Type="http://schemas.openxmlformats.org/officeDocument/2006/relationships/hyperlink" Target="http://www.museopoldipezzoli.it/userfiles/3208.jp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san+pietro+in+montorio&amp;source=images&amp;cd=&amp;cad=rja&amp;docid=xdZb70LgKcX0HM&amp;tbnid=utl3J7mNSEs9OM:&amp;ved=0CAUQjRw&amp;url=http%3A%2F%2Ftripwow.tripadvisor.com%2Fslideshow-photo%2Fsan-pietro-in-montorio-trastevere-rome-italy.html%3Fsid%3D10852772%26fid%3Dupload_12860246377-tpfil02aw-6660&amp;ei=1eV6UfGLI8SsPIDcgLAC&amp;psig=AFQjCNF-IAoqOtzkkDeLE4zVyxOR_XVCnw&amp;ust=1367095100323164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3.varesenews.it/busto/articolo.php?id=23877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source=images&amp;cd=&amp;cad=rja&amp;docid=Rca2Po19d2wI6M&amp;tbnid=f0F9M-T1pYxCCM:&amp;ved=0CAgQjRwwAA&amp;url=http%3A%2F%2Fwww.panoramio.com%2Fphoto%2F33553516&amp;ei=myWAUYmIKcaHtAb1poGgDg&amp;psig=AFQjCNForccO6xqmTXZ_L3b8IPmt0a0Bsw&amp;ust=1367439131711920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it/url?sa=i&amp;rct=j&amp;q=GUIDA+TURISTICA&amp;source=images&amp;cd=&amp;cad=rja&amp;docid=cW6u0hQVD6bFDM&amp;tbnid=feDUB0NACvzhWM:&amp;ved=0CAUQjRw&amp;url=http%3A%2F%2Fwww.provincia.genova.it%2Fportal%2Fpage%2FcategoryItem%3FcontentId%3D190994-%253Efe0s2r86w4_content_gmr161q131&amp;ei=Ho6AUbudJonjOre7gIAK&amp;psig=AFQjCNH6KzV_q27iajVBuWjbZWJUSwjE2g&amp;ust=1367465844095622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ilnord.com/2012/01/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mune.bustoarsizio.va.it/musei-e-monumenti/palazzo-cicogna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dWDE6kU7pNZRZM&amp;tbnid=nZw2h3RjIM_-tM:&amp;ved=0CAUQjRw&amp;url=http%3A%2F%2Fen.wikipedia.org%2Fwiki%2FFile%3APinacoteca_di_Brera.jpg&amp;ei=P7aTUfO3CIHwPMqtgIgN&amp;bvm=bv.46471029,d.bGE&amp;psig=AFQjCNE3r53CzqJiIsW_hqNHfIvgCTJUvQ&amp;ust=1368721335623942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NE2ut3Mt9EQckM&amp;tbnid=dXHb6b6Nc7NipM:&amp;ved=0CAUQjRw&amp;url=http%3A%2F%2Fwww.wakeupnews.eu%2Fgrande-brera-verso-privatizzazione%2F&amp;ei=brGTUfH0KMabPdGogagO&amp;bvm=bv.46471029,d.bGE&amp;psig=AFQjCNF6xNBQYq1WoF8aylyhaq9Cs6JzHg&amp;ust=1368720041880065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CA5xZunuyTFYtM&amp;tbnid=ZCkKzPUMMFyqtM:&amp;ved=0CAUQjRw&amp;url=http%3A%2F%2Fwww.artdreamguide.com%2Fitalia%2Fmilano%2Fm_brera%2Fold.htm&amp;ei=rbaTUcyyHojJPcq0gaAC&amp;bvm=bv.46471029,d.bGE&amp;psig=AFQjCNE3r53CzqJiIsW_hqNHfIvgCTJUvQ&amp;ust=1368721335623942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gianfrancomarini.blogspot.com/2012_08_01_archive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UOMINI+D%27ARME+BRAMANTE&amp;source=images&amp;cd=&amp;cad=rja&amp;docid=zWY0gJ380FS1TM&amp;tbnid=iXnp2Pu1qBEyBM:&amp;ved=0CAUQjRw&amp;url=http%3A%2F%2Fwww.geometriefluide.com%2Fpagina.asp%3Fcat%3Dbramante%26prod%3Duominidarme&amp;ei=yLOTUb7xJ4HeOtfqgIAG&amp;bvm=bv.46471029,d.bGE&amp;psig=AFQjCNHqLdNrSf4hXIB_cdI_5gUrWinhqA&amp;ust=1368720696371516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google.it/url?sa=i&amp;rct=j&amp;q=UOMINI+D%27ARME+BRAMANTE&amp;source=images&amp;cd=&amp;cad=rja&amp;docid=zWY0gJ380FS1TM&amp;tbnid=9BwBnZFk4cOEJM:&amp;ved=0CAUQjRw&amp;url=http%3A%2F%2Fwww.geometriefluide.com%2Fpagina.asp%3Fcat%3Dbramante%26prod%3Duominidarme&amp;ei=2rOTUfO0JcjUPKiRgaAH&amp;bvm=bv.46471029,d.bGE&amp;psig=AFQjCNHqLdNrSf4hXIB_cdI_5gUrWinhqA&amp;ust=1368720696371516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olftzw-vNDZ1AM&amp;tbnid=Tn4rx4AqmDV8pM:&amp;ved=0CAUQjRw&amp;url=http%3A%2F%2Fit.wikipedia.org%2Fwiki%2FPinacoteca_di_Brera&amp;ei=J7STUavdK4iXO735gEA&amp;bvm=bv.46471029,d.bGE&amp;psig=AFQjCNF6xNBQYq1WoF8aylyhaq9Cs6JzHg&amp;ust=1368720041880065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Gsn92CaBg4hDGM&amp;tbnid=X3LHK6U_HSQhQM:&amp;ved=0CAUQjRw&amp;url=http%3A%2F%2Fcreativeprojectformedarte.wordpress.com%2F2013%2F03%2F30%2Fandrea-mantegna-compianto-sul-cristo-morto%2Fandrea-mantegna-compianto-sul-cristo-morto-1490-milano-pinacoteca-di-brera-dettaglio1%2F&amp;ei=z7WTUaGEC4nFPcvlgNAK&amp;bvm=bv.46471029,d.bGE&amp;psig=AFQjCNF6xNBQYq1WoF8aylyhaq9Cs6JzHg&amp;ust=1368720041880065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bestourism.com/bests/bestimages?tag=-top-places-in-Mila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muwsfvN7MlV2vM&amp;tbnid=R7D2W9EX-AeZ-M:&amp;ved=0CAUQjRw&amp;url=http%3A%2F%2Fwww.beniculturali.it%2Fmibac%2Fexport%2FMiBAC%2Fsito-MiBAC%2FContenuti%2FMibacUnif%2FComunicati%2Fvisualizza_asset.html_968219704.html&amp;ei=KrWTUbtPidU87-aAoAI&amp;bvm=bv.46471029,d.bGE&amp;psig=AFQjCNF6xNBQYq1WoF8aylyhaq9Cs6JzHg&amp;ust=1368720041880065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opera+di+tiziano+alla+pinacoteca+di+brera&amp;source=images&amp;cd=&amp;cad=rja&amp;docid=DtH3sGG8801qkM&amp;tbnid=ENpURUauzVbOZM:&amp;ved=0CAUQjRw&amp;url=http%3A%2F%2Fblog.best-bookings.com%2Fit%2Fmilano-bramante-pinacoteca-brera%2F&amp;ei=PLuTUdCLLIeXO5-OgfgM&amp;bvm=bv.46471029,d.Yms&amp;psig=AFQjCNHXusYiOFQE1dRAVhYcDQTEjK9j_w&amp;ust=1368722598151639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gYfc114UmKma7M&amp;tbnid=XwL-lH6_pK96hM:&amp;ved=0CAUQjRw&amp;url=http%3A%2F%2Fit.paperblog.com%2Fpinacoteca-di-brera-92076%2F&amp;ei=zbSTUcrOFMewPPaQgKgO&amp;bvm=bv.46471029,d.bGE&amp;psig=AFQjCNF6xNBQYq1WoF8aylyhaq9Cs6JzHg&amp;ust=1368720041880065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ulturaitalia.it/opencms/opencms/system/modules/com.culturaitalia_stage.liberologico/templates/museid/viewItem.jsp?language=it&amp;id=oai%3Aculturaitalia.it%3Amuseiditalia-mus_7450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arteesalute.blogosfere.it/2009/01/caravaggio-torna-a-milano-per-i-duecento-anni-di-brera.htm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nacoteca+brera+ultima+cena&amp;source=images&amp;cd=&amp;cad=rja&amp;docid=AhnKDOVEF2o7OM&amp;tbnid=LVBGDf5D4xl3BM:&amp;ved=0CAUQjRw&amp;url=http%3A%2F%2Fit.wikipedia.org%2Fwiki%2FBarocco_a_Milano&amp;ei=KLyTUabELoTZPKi4gbgF&amp;bvm=bv.46471029,d.bGE&amp;psig=AFQjCNEp0hjl7xIxhJsKvKhZMXadINir6w&amp;ust=1368722853550850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veduta+del+bacino+di+san+marco+dalla+punta+della+dogana&amp;source=images&amp;cd=&amp;cad=rja&amp;docid=QmGIDL6KfJEJdM&amp;tbnid=V6EKI9ictU8xUM:&amp;ved=0CAUQjRw&amp;url=http%3A%2F%2Fwww.flickr.com%2Fphotos%2Fmbell1975%2F7434507516%2F&amp;ei=CeKTUevoBIbEPYOcgeAI&amp;bvm=bv.46471029,d.bGE&amp;psig=AFQjCNHfrmYvO1u5gHRSBI_mNFEpXw2YGQ&amp;ust=1368732535721726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LlpS4Y36lDtkeM&amp;tbnid=1jBG-WLZoKtTuM:&amp;ved=0CAUQjRw&amp;url=http%3A%2F%2Fwww.messaggerosantantonio.it%2Fmessaggero%2Fpagina_articolo.asp%3FIDX%3D1798IDRX%3D164&amp;ei=VLWTUeHMFcmvO6vJgJAJ&amp;bvm=bv.46471029,d.bGE&amp;psig=AFQjCNF6xNBQYq1WoF8aylyhaq9Cs6JzHg&amp;ust=1368720041880065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rtdreamguide.com/italia/milano/m_brera/otto.htm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e.it/artista/gaudenzio-ferrari-200" TargetMode="External"/><Relationship Id="rId2" Type="http://schemas.openxmlformats.org/officeDocument/2006/relationships/hyperlink" Target="http://www.arte.it/artista/gaudenzio-ferrari-200" TargetMode="External"/><Relationship Id="rId3" Type="http://schemas.openxmlformats.org/officeDocument/2006/relationships/hyperlink" Target="http://www.arte.it/artista/gaudenzio-ferrari-200" TargetMode="External"/><Relationship Id="rId4" Type="http://schemas.openxmlformats.org/officeDocument/2006/relationships/hyperlink" Target="http://www.arte.it/artista/gaudenzio-ferrari-200" TargetMode="External"/><Relationship Id="rId5" Type="http://schemas.openxmlformats.org/officeDocument/2006/relationships/hyperlink" Target="http://www.arte.it/artista/gaudenzio-ferrari-200" TargetMode="External"/><Relationship Id="rId6" Type="http://schemas.openxmlformats.org/officeDocument/2006/relationships/hyperlink" Target="http://www.treccani.it/enciclopedia/tag/gaudenzio-ferrari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valduggia/" TargetMode="External"/><Relationship Id="rId2" Type="http://schemas.openxmlformats.org/officeDocument/2006/relationships/hyperlink" Target="http://www.treccani.it/enciclopedia/milano/" TargetMode="External"/><Relationship Id="rId3" Type="http://schemas.openxmlformats.org/officeDocument/2006/relationships/hyperlink" Target="http://www.treccani.it/enciclopedia/torino/" TargetMode="External"/><Relationship Id="rId4" Type="http://schemas.openxmlformats.org/officeDocument/2006/relationships/hyperlink" Target="http://www.treccani.it/enciclopedia/varallo/" TargetMode="External"/><Relationship Id="rId5" Type="http://schemas.openxmlformats.org/officeDocument/2006/relationships/hyperlink" Target="http://www.treccani.it/enciclopedia/budapest/" TargetMode="External"/><Relationship Id="rId6" Type="http://schemas.openxmlformats.org/officeDocument/2006/relationships/hyperlink" Target="http://www.treccani.it/enciclopedia/correggio/" TargetMode="External"/><Relationship Id="rId7" Type="http://schemas.openxmlformats.org/officeDocument/2006/relationships/hyperlink" Target="http://www.treccani.it/enciclopedia/sacro-monte/" TargetMode="External"/><Relationship Id="rId8" Type="http://schemas.openxmlformats.org/officeDocument/2006/relationships/hyperlink" Target="http://www.treccani.it/enciclopedia/vercelli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ttangolo 4" descr=""/>
          <p:cNvPicPr/>
          <p:nvPr/>
        </p:nvPicPr>
        <p:blipFill>
          <a:blip r:embed="rId1"/>
          <a:stretch/>
        </p:blipFill>
        <p:spPr>
          <a:xfrm>
            <a:off x="237960" y="669960"/>
            <a:ext cx="7936200" cy="1298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Rettangolo 6" descr=""/>
          <p:cNvPicPr/>
          <p:nvPr/>
        </p:nvPicPr>
        <p:blipFill>
          <a:blip r:embed="rId2"/>
          <a:stretch/>
        </p:blipFill>
        <p:spPr>
          <a:xfrm>
            <a:off x="536400" y="1957320"/>
            <a:ext cx="7375680" cy="299880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5"/>
          <p:cNvSpPr/>
          <p:nvPr/>
        </p:nvSpPr>
        <p:spPr>
          <a:xfrm>
            <a:off x="2411280" y="5373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ZIONE DEL  16 MAGGIO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asellaDiTesto 8"/>
          <p:cNvSpPr/>
          <p:nvPr/>
        </p:nvSpPr>
        <p:spPr>
          <a:xfrm>
            <a:off x="324000" y="1052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ovan Battista Della Cerva 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ievo di Gaudenzio Ferr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2"/>
          <p:cNvSpPr/>
          <p:nvPr/>
        </p:nvSpPr>
        <p:spPr>
          <a:xfrm>
            <a:off x="250920" y="220500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://www.treccani.it/enciclopedia/della-cerva-giovanni-battista_(Dizionario-Biograf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ttangolo 1"/>
          <p:cNvSpPr/>
          <p:nvPr/>
        </p:nvSpPr>
        <p:spPr>
          <a:xfrm>
            <a:off x="684360" y="4292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baroque.it/arte-barocca/la-pittura-barocca/daniele-crespi-pittore-barocc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i tra i materiali articolo di Varese Focu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sellaDiTesto 2"/>
          <p:cNvSpPr/>
          <p:nvPr/>
        </p:nvSpPr>
        <p:spPr>
          <a:xfrm>
            <a:off x="826920" y="189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niele Crespi (Busto Arsizio 1600-16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tangolo 3"/>
          <p:cNvSpPr/>
          <p:nvPr/>
        </p:nvSpPr>
        <p:spPr>
          <a:xfrm>
            <a:off x="684360" y="3105000"/>
            <a:ext cx="61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popsoarte.it/FixedPages/IT/artisti.php/L/IT/ID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">
            <a:hlinkClick r:id="rId1"/>
          </p:cNvPr>
          <p:cNvSpPr/>
          <p:nvPr/>
        </p:nvSpPr>
        <p:spPr>
          <a:xfrm>
            <a:off x="155520" y="-1828800"/>
            <a:ext cx="1800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rId2"/>
          </p:cNvPr>
          <p:cNvSpPr/>
          <p:nvPr/>
        </p:nvSpPr>
        <p:spPr>
          <a:xfrm>
            <a:off x="155520" y="-1828800"/>
            <a:ext cx="1800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3.varesenews.it/immagini_articoli/200604/Daniele%20Crespi3.jpg"/>
          <p:cNvPicPr/>
          <p:nvPr/>
        </p:nvPicPr>
        <p:blipFill>
          <a:blip r:embed="rId3"/>
          <a:stretch/>
        </p:blipFill>
        <p:spPr>
          <a:xfrm>
            <a:off x="2916360" y="549360"/>
            <a:ext cx="21603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upload.wikimedia.org/wikipedia/commons/thumb/f/f6/Daniele_Crespi_001.jpg/220px-Daniele_Crespi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8200"/>
            <a:ext cx="3600720" cy="440208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2"/>
          <p:cNvSpPr/>
          <p:nvPr/>
        </p:nvSpPr>
        <p:spPr>
          <a:xfrm>
            <a:off x="684360" y="50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ietà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Crespi al Prado,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http://t1.gstatic.com/images?q=tbn:ANd9GcTAtCYqTODSUniPFYvvBFW3hI3u-biZN_Ab6W2ngJjhcVFBo2X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268280"/>
            <a:ext cx="3798720" cy="264636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4"/>
          <p:cNvSpPr/>
          <p:nvPr/>
        </p:nvSpPr>
        <p:spPr>
          <a:xfrm>
            <a:off x="4500720" y="4221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Cresp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digiuno di San Carl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anta Maria della Passione a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ttangolo 1"/>
          <p:cNvSpPr/>
          <p:nvPr/>
        </p:nvSpPr>
        <p:spPr>
          <a:xfrm>
            <a:off x="395280" y="83664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n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Bernardino. - Pittore (n.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Morta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512 circa - m. 1583 circa); discepolo dapprima di Baldassare dei Cadighi, passò poi alla bottega di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Gaudenzio Ferr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1530); nel 1546 era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Mil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La sua attività si divide in tre periodi: nel primo (1534-48) l'influsso gaudenziano è più intens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rtirio di s. Cateri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46-48, Milano, S. Nazaro Maggiore); nel secondo (1548-58) la sua personalità si delinea meglio, nei colori freddi, chiari e negli atteggiamenti graziosi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Battesim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54, Milano, Brera); nell'ultimo (pala del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Graz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68,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Vercel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S. Giuli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la gamma coloristica si fa più t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2"/>
          <p:cNvSpPr/>
          <p:nvPr/>
        </p:nvSpPr>
        <p:spPr>
          <a:xfrm>
            <a:off x="2556000" y="260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RNARDINO LA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media.tumblr.com/tumblr_m40n4kuF1T1qggdq1.jpg"/>
          <p:cNvPicPr/>
          <p:nvPr/>
        </p:nvPicPr>
        <p:blipFill>
          <a:blip r:embed="rId6"/>
          <a:stretch/>
        </p:blipFill>
        <p:spPr>
          <a:xfrm>
            <a:off x="4427640" y="765000"/>
            <a:ext cx="35892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1"/>
          <p:cNvSpPr/>
          <p:nvPr/>
        </p:nvSpPr>
        <p:spPr>
          <a:xfrm>
            <a:off x="395280" y="1225440"/>
            <a:ext cx="756144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stauro della Pala della Madonna Assunta di Villa Manzoni </a:t>
            </a:r>
            <a:br>
              <a:rPr sz="1800"/>
            </a:br>
            <a:br>
              <a:rPr sz="18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Musei Civici del comune di Lecco e l’International Inner Wheel Club Lecco, in occasione del ventennale di fondazione dell’International Inner Wheel Club Lecco e nell’ ambito della terza edizione del Premio Internazionale Letterario di Narrativa Alessandro Manzoni, presentano il restauro della Pala della Madonna Assunta conservata nella cappella di Villa Manzoni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’opera è attribuita al pittore milanese Carlo Preda ( 1651-1729), la cui prima attività rivela un’affinità stilistica con i maestri genovesi di fine Seicento, che l’artista aveva conosciuto indirettamente dopo i suoi primi anni di formazione a Milano. Nelle opere successive si riscontra l’adesione al barocchetto di fine Seicento inizio Settecento, caratterizzato dalle forme gentili dei volti, dalle linee sinuose dei panneggi e dalle tonalità chiare dei colori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estauro, reso possibile grazie all’intervento dell’ International Inner Wheel Club Lecco, è consistito prevalentemente in una pulitura della tela, che ha ripristinato i colori originali, dagli incarnati dei volti, ai panneggi sinuosi del manto della Vergine, alla morbidezza delle nuvole, mettendo in luce i caratteri del barocchetto cui Preda guardava. Oltre al restauro L’Inner Wheel Club Lecco ha finanziato la nuova illuminazione della Pala con faretti speciali dotati di lux idonei alla conservazione dell’opera e nel contempo alla esaltazione del colore e dei toni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estauro rappresenta quindi un evento significativo per la cultura italiana, non solo per la grande qualità dell’opera, ma anche per l’influenza che esercitò sul più importante romanzo della Letteratura italiana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el 1950 infatti Mina Gregori pubblicò su “ Paragone” un saggio memorabile “ I ricordi figurativi di Alessandro Manzoni” che ebbe uno straordinario impatto sulla cultura italiana, avviando il recupero della grande pittura lombarda del Seicento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’influenza dei pittori seicenteschi, visti da bambino, sull’opera manzoniana divenne un assioma alla base di tante importanti mostre, curate dalla Gregori stessa e da Giovanni Testori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 Pala della Madonna Assunta nella Cappella di Villa Manzoni, è sicuramente il ricordo figurativo più preciso ed intenso dell’infanzia dello scrittore che per tanti anni la vedeva, ogni giorno, nella sua casa paterna del Caleotto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1763640" y="40464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LO PREDA (Milano 1651-17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www.museilecco.org/immagini/PalaAssunta.jpg"/>
          <p:cNvPicPr/>
          <p:nvPr/>
        </p:nvPicPr>
        <p:blipFill>
          <a:blip r:embed="rId1"/>
          <a:stretch/>
        </p:blipFill>
        <p:spPr>
          <a:xfrm>
            <a:off x="250920" y="281160"/>
            <a:ext cx="4105080" cy="6464160"/>
          </a:xfrm>
          <a:prstGeom prst="rect">
            <a:avLst/>
          </a:prstGeom>
          <a:ln w="0">
            <a:noFill/>
          </a:ln>
        </p:spPr>
      </p:pic>
      <p:sp>
        <p:nvSpPr>
          <p:cNvPr id="261" name="CasellaDiTesto 2"/>
          <p:cNvSpPr/>
          <p:nvPr/>
        </p:nvSpPr>
        <p:spPr>
          <a:xfrm>
            <a:off x="4716360" y="1413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ssunta di Villa Manzoni di Carlo P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ttangolo 1"/>
          <p:cNvSpPr/>
          <p:nvPr/>
        </p:nvSpPr>
        <p:spPr>
          <a:xfrm>
            <a:off x="324000" y="476280"/>
            <a:ext cx="777708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ietro Antonio Magatti lavorò per gran parte della sua vita a Varese, sua città d’origine, e in Lombardia. La sua opera appare fortemente influenzata dai grandi pittori lombardi del Seicento e questo ritratto rimanda in maniera evidente al </a:t>
            </a:r>
            <a:r>
              <a:rPr b="0" lang="it-IT" sz="12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Digiuno di San Carlo</a:t>
            </a:r>
            <a:r>
              <a:rPr b="0" lang="it-IT" sz="12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 di Daniele Crespi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(1598-1630), nella chiesa di Santa Maria della Passione a Milano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quadro del Crespi San Carlo è seduto ad un tavolo in abito cardinalizio e sta leggendo un libro mentre consuma un pasto costituito esclusivamente da pane e acqua. Di fronte, appoggiato su un altro tavolo, si scorge un crocifisso. I digiuni e le veglie hanno reso la sua carnagione cerea e malaticcia, ma il viso non esprime tanto fatica e sofferenza, quanto compostezza e concentrazione. Magatti si ispira alla posa di Daniele Crespi con San Carlo che appoggia la testa su un fazzoletto bianco: un dettaglio inventato dal Crespi per descrivere efficacemente la stanchezza fisica contrapposta all’incrollabile volontà del santo. 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gatti rappresenta l’arcivescovo nella stessa posizione, ma da un punto di vista molto più ravvicinato e con un taglio di luce molto teatrale. Sul tavolo, al posto del libro, c’è un teschio, il classic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emento mori.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bito è gonfio e vaporoso, e la manica in vista è arricchita da un pizzo elegante. La carnagione ha assunto un tono verdastro; il viso è scavato, tanto che sembra di intravedere il teschio sotto la pelle; la mano ossuta in primo piano appare scossa da forte tensione. Della compostezza del San Carlo di Daniele Crespi non c’è più traccia; nella rappresentazione del Magatti il santo è travolto da violenta emozione mentre contempla il crocifisso fuori campo. 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sintonia con la sensibilità del nuovo secolo la pennellata più leggera e morbida del Magatti è riuscita a fornire una versione al contempo più patetica e mondana dell’immagine di San Carlo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sellaDiTesto 2"/>
          <p:cNvSpPr/>
          <p:nvPr/>
        </p:nvSpPr>
        <p:spPr>
          <a:xfrm>
            <a:off x="169236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ETRO ANTONIO MAGATTI (Varese, 1691-17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images.travelpod.com/tripwow/photos/ta-00a5-99a4-5cc4/san-pietro-in-montorio-trastevere-rome-italy+1152_12860246377-tpfil02aw-66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49360"/>
            <a:ext cx="6120000" cy="4589280"/>
          </a:xfrm>
          <a:prstGeom prst="rect">
            <a:avLst/>
          </a:prstGeom>
          <a:ln w="0">
            <a:noFill/>
          </a:ln>
        </p:spPr>
      </p:pic>
      <p:sp>
        <p:nvSpPr>
          <p:cNvPr id="265" name="CasellaDiTesto 2"/>
          <p:cNvSpPr/>
          <p:nvPr/>
        </p:nvSpPr>
        <p:spPr>
          <a:xfrm>
            <a:off x="1332000" y="5661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mante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n Pietro in Montor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1502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www3.varesenews.it/immagini_articoli/200704/PALAZZO_MARLIANI_CICOG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7054920" cy="4815000"/>
          </a:xfrm>
          <a:prstGeom prst="rect">
            <a:avLst/>
          </a:prstGeom>
          <a:ln w="0">
            <a:noFill/>
          </a:ln>
        </p:spPr>
      </p:pic>
      <p:sp>
        <p:nvSpPr>
          <p:cNvPr id="267" name="CasellaDiTesto 2"/>
          <p:cNvSpPr/>
          <p:nvPr/>
        </p:nvSpPr>
        <p:spPr>
          <a:xfrm>
            <a:off x="611280" y="33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lazzo Marliani Cic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‘500 alla metà del ‘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de delle Civiche Raccolte d’arte e della biblioteca comu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mw2.google.com/mw-panoramio/photos/medium/335535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7694640" cy="5770800"/>
          </a:xfrm>
          <a:prstGeom prst="rect">
            <a:avLst/>
          </a:prstGeom>
          <a:ln w="0">
            <a:noFill/>
          </a:ln>
        </p:spPr>
      </p:pic>
      <p:sp>
        <p:nvSpPr>
          <p:cNvPr id="269" name="CasellaDiTesto 2"/>
          <p:cNvSpPr/>
          <p:nvPr/>
        </p:nvSpPr>
        <p:spPr>
          <a:xfrm>
            <a:off x="320364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tlile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ttangolo 3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691848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Rettangolo 7" descr=""/>
          <p:cNvPicPr/>
          <p:nvPr/>
        </p:nvPicPr>
        <p:blipFill>
          <a:blip r:embed="rId2"/>
          <a:stretch/>
        </p:blipFill>
        <p:spPr>
          <a:xfrm>
            <a:off x="957240" y="1463760"/>
            <a:ext cx="6772320" cy="2558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provincia.genova.it/servlets/resources?resourceId=9705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371760"/>
            <a:ext cx="2631960" cy="3152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www.ilnord.com/wp-content/uploads/2012/01/Guida-turistic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008600"/>
            <a:ext cx="244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CasellaDiTesto 2"/>
          <p:cNvSpPr/>
          <p:nvPr/>
        </p:nvSpPr>
        <p:spPr>
          <a:xfrm>
            <a:off x="1547640" y="1484280"/>
            <a:ext cx="259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asellaDiTesto 3"/>
          <p:cNvSpPr/>
          <p:nvPr/>
        </p:nvSpPr>
        <p:spPr>
          <a:xfrm>
            <a:off x="1700280" y="1636560"/>
            <a:ext cx="259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tangolo 6"/>
          <p:cNvSpPr/>
          <p:nvPr/>
        </p:nvSpPr>
        <p:spPr>
          <a:xfrm>
            <a:off x="250920" y="1989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://www.comune.bustoarsizio.va.it/musei-e-monumenti/palazzo-cic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ttangolo 2" descr=""/>
          <p:cNvPicPr/>
          <p:nvPr/>
        </p:nvPicPr>
        <p:blipFill>
          <a:blip r:embed="rId1"/>
          <a:stretch/>
        </p:blipFill>
        <p:spPr>
          <a:xfrm>
            <a:off x="317520" y="1809720"/>
            <a:ext cx="7577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t2.gstatic.com/images?q=tbn:ANd9GcRs7a_lGn4g_17Qp6sKYTv42hRr2jgNXmQNUCNX2z0mKL-GvGYv7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7513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wakeupnews.eu/wp-content/uploads/2013/01/Brera-Mila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748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La piantina della Pinacoteca"/>
          <p:cNvPicPr/>
          <p:nvPr/>
        </p:nvPicPr>
        <p:blipFill>
          <a:blip r:embed="rId1"/>
          <a:stretch/>
        </p:blipFill>
        <p:spPr>
          <a:xfrm>
            <a:off x="971640" y="549360"/>
            <a:ext cx="6642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www.artdreamguide.com/italia/milano/m_brera/img/brera_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705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2.bp.blogspot.com/-XtjMBAPTwgQ/UDRU1EnYM-I/AAAAAAAAGQE/9DtZDsrP_rk/s1600/bramante_eraclito_democri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6697440" cy="5111640"/>
          </a:xfrm>
          <a:prstGeom prst="rect">
            <a:avLst/>
          </a:prstGeom>
          <a:ln w="0">
            <a:noFill/>
          </a:ln>
        </p:spPr>
      </p:pic>
      <p:sp>
        <p:nvSpPr>
          <p:cNvPr id="279" name="CasellaDiTesto 2"/>
          <p:cNvSpPr/>
          <p:nvPr/>
        </p:nvSpPr>
        <p:spPr>
          <a:xfrm>
            <a:off x="1547640" y="5877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Bramante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Uomini illust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affreschi stac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www.geometriefluide.com/foto/PIC174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635280" cy="331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www.geometriefluide.com/foto/PIC173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357720"/>
            <a:ext cx="35593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upload.wikimedia.org/wikipedia/commons/thumb/3/3e/Mantegna_Andrea_Dead_Christ.jpg/220px-Mantegna_Andrea_Dead_Chri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620640"/>
            <a:ext cx="6104160" cy="5159520"/>
          </a:xfrm>
          <a:prstGeom prst="rect">
            <a:avLst/>
          </a:prstGeom>
          <a:ln w="0">
            <a:noFill/>
          </a:ln>
        </p:spPr>
      </p:pic>
      <p:sp>
        <p:nvSpPr>
          <p:cNvPr id="283" name="CasellaDiTesto 2"/>
          <p:cNvSpPr/>
          <p:nvPr/>
        </p:nvSpPr>
        <p:spPr>
          <a:xfrm>
            <a:off x="1332000" y="6165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drea Mantegna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risto mort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t3.gstatic.com/images?q=tbn:ANd9GcR6f0jxBFMJyB_F-lRDPPwia0-oIWI0x_bboXkB7GBsF4NvhX5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404640"/>
            <a:ext cx="41007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611280" y="549360"/>
          <a:ext cx="6912000" cy="547200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47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i era Grundtvi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koli Frederik Severin Grundtvig (1783-1872), religioso danese e scrittore, è riconosciuto come il padr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deologico dell'istruzione popolare nell'età adulta. Il suo pensiero, la sua 'illuminazione mirò a dare ad ogni individuo, a prescindere dalla sua età o formazione culturale, l'opportunità di apprendere lungo tutta la durata della vita.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 obiettivi di questo apprendimento sono duplici, da una parte la realizzazione personale dell'individuo e dall'altra l'assicurare la partecipazione attiva di ogni cittadino nella vita pubbl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e metodo di apprendimento, Grundtvig prediligeva l'uso del dialogo e della trasmissione verbale della cultura. Egli credeva fermamente che l'insegnamento dovesse essere fondato sulle esperienze di vita reale e non su questioni astratte.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Queste idee portarono alla fondazione della Scuola Superiore Nordica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olare. Questi istituti di educazione "non-formale per adulti sono oggi componenti consolidate del sistema educativo dei paesi scandinavi e sono altresì diffusi anche in altre nazion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://www.bestourism.com/img/items/big/941/Pinacoteca-di-Brera_Pinacoteca-di-Brera-artwork_355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89000"/>
            <a:ext cx="6481800" cy="602136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3"/>
          <p:cNvSpPr/>
          <p:nvPr/>
        </p:nvSpPr>
        <p:spPr>
          <a:xfrm>
            <a:off x="1547640" y="6211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ni Belli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ie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www.beniculturali.it/mibac/multimedia/MiBAC/images/upload/med/22/1291626660703_7x3_brera_madonna_ARTE_de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7095960" cy="4073400"/>
          </a:xfrm>
          <a:prstGeom prst="rect">
            <a:avLst/>
          </a:prstGeom>
          <a:ln w="0">
            <a:noFill/>
          </a:ln>
        </p:spPr>
      </p:pic>
      <p:sp>
        <p:nvSpPr>
          <p:cNvPr id="288" name="CasellaDiTesto 2"/>
          <p:cNvSpPr/>
          <p:nvPr/>
        </p:nvSpPr>
        <p:spPr>
          <a:xfrm>
            <a:off x="1476360" y="5373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ni Belli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donna col bamb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avola trasportat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http://blog.best-bookings.com/it/files/2012/05/250px-Bramante-cristo-alla-colo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4254480" cy="6500880"/>
          </a:xfrm>
          <a:prstGeom prst="rect">
            <a:avLst/>
          </a:prstGeom>
          <a:ln w="0">
            <a:noFill/>
          </a:ln>
        </p:spPr>
      </p:pic>
      <p:sp>
        <p:nvSpPr>
          <p:cNvPr id="290" name="CasellaDiTesto 2"/>
          <p:cNvSpPr/>
          <p:nvPr/>
        </p:nvSpPr>
        <p:spPr>
          <a:xfrm>
            <a:off x="4788000" y="1700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nato Bram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risto alla colon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e tempera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m2.paperblog.com/i/9/92076/pinacoteca-di-brera-L-2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4319640" cy="6116760"/>
          </a:xfrm>
          <a:prstGeom prst="rect">
            <a:avLst/>
          </a:prstGeom>
          <a:ln w="0">
            <a:noFill/>
          </a:ln>
        </p:spPr>
      </p:pic>
      <p:sp>
        <p:nvSpPr>
          <p:cNvPr id="292" name="CasellaDiTesto 2"/>
          <p:cNvSpPr/>
          <p:nvPr/>
        </p:nvSpPr>
        <p:spPr>
          <a:xfrm>
            <a:off x="4859280" y="198900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ero della Francesca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cra Convers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 e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http://151.12.58.237:8080/DBUnicoMedia/repository/images/09-11-2011/b7f116fe818cbaa7608c4a16fa6d1c8912b59be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4105080" cy="5948280"/>
          </a:xfrm>
          <a:prstGeom prst="rect">
            <a:avLst/>
          </a:prstGeom>
          <a:ln w="0">
            <a:noFill/>
          </a:ln>
        </p:spPr>
      </p:pic>
      <p:sp>
        <p:nvSpPr>
          <p:cNvPr id="294" name="CasellaDiTesto 2"/>
          <p:cNvSpPr/>
          <p:nvPr/>
        </p:nvSpPr>
        <p:spPr>
          <a:xfrm>
            <a:off x="5148360" y="220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ffael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posalizio della Vergine,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cdn.blogosfere.it/arteesalute/images/CenainEmmaus_Lond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296" name="CasellaDiTesto 2"/>
          <p:cNvSpPr/>
          <p:nvPr/>
        </p:nvSpPr>
        <p:spPr>
          <a:xfrm>
            <a:off x="147636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avaggi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ena in Emmau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upload.wikimedia.org/wikipedia/commons/thumb/5/59/Daniele_Crespi_-_The_Last_Supper_-_WGA5745.jpg/190px-Daniele_Crespi_-_The_Last_Supper_-_WGA57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3961080" cy="6045120"/>
          </a:xfrm>
          <a:prstGeom prst="rect">
            <a:avLst/>
          </a:prstGeom>
          <a:ln w="0">
            <a:noFill/>
          </a:ln>
        </p:spPr>
      </p:pic>
      <p:sp>
        <p:nvSpPr>
          <p:cNvPr id="298" name="CasellaDiTesto 2"/>
          <p:cNvSpPr/>
          <p:nvPr/>
        </p:nvSpPr>
        <p:spPr>
          <a:xfrm>
            <a:off x="4643280" y="119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niele Cresp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enac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t2.gstatic.com/images?q=tbn:ANd9GcSDUeHx714cZ0e07rVBOZyzczuK23js3C4LGjtVYf4X6CiE9J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765000"/>
            <a:ext cx="6637320" cy="4908600"/>
          </a:xfrm>
          <a:prstGeom prst="rect">
            <a:avLst/>
          </a:prstGeom>
          <a:ln w="0">
            <a:noFill/>
          </a:ln>
        </p:spPr>
      </p:pic>
      <p:sp>
        <p:nvSpPr>
          <p:cNvPr id="300" name="CasellaDiTesto 2"/>
          <p:cNvSpPr/>
          <p:nvPr/>
        </p:nvSpPr>
        <p:spPr>
          <a:xfrm>
            <a:off x="684360" y="587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alett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duta del bacino di San Marco dalla punta della Dogan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www.santantonio.org/messaggero/upload/foto/0309_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684680" cy="5904000"/>
          </a:xfrm>
          <a:prstGeom prst="rect">
            <a:avLst/>
          </a:prstGeom>
          <a:ln w="0">
            <a:noFill/>
          </a:ln>
        </p:spPr>
      </p:pic>
      <p:sp>
        <p:nvSpPr>
          <p:cNvPr id="302" name="CasellaDiTesto 2"/>
          <p:cNvSpPr/>
          <p:nvPr/>
        </p:nvSpPr>
        <p:spPr>
          <a:xfrm flipH="1" flipV="1" rot="10800000">
            <a:off x="5219640" y="19317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ncesco Hayez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bac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://www.artdreamguide.com/_arti/pellizza/img/5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89000"/>
            <a:ext cx="5253120" cy="2982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3.gstatic.com/images?q=tbn:ANd9GcTP7KJzB9QCfl8yFu7M1g6X8BAv5PuBqNgHfddpRENRGKHAQDqx"/>
          <p:cNvPicPr/>
          <p:nvPr/>
        </p:nvPicPr>
        <p:blipFill>
          <a:blip r:embed="rId3"/>
          <a:stretch/>
        </p:blipFill>
        <p:spPr>
          <a:xfrm>
            <a:off x="250920" y="3500280"/>
            <a:ext cx="5807160" cy="3044880"/>
          </a:xfrm>
          <a:prstGeom prst="rect">
            <a:avLst/>
          </a:prstGeom>
          <a:ln w="0">
            <a:noFill/>
          </a:ln>
        </p:spPr>
      </p:pic>
      <p:sp>
        <p:nvSpPr>
          <p:cNvPr id="305" name="CasellaDiTesto 3"/>
          <p:cNvSpPr/>
          <p:nvPr/>
        </p:nvSpPr>
        <p:spPr>
          <a:xfrm>
            <a:off x="0" y="1125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lizza da Volped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ium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sellaDiTesto 4"/>
          <p:cNvSpPr/>
          <p:nvPr/>
        </p:nvSpPr>
        <p:spPr>
          <a:xfrm>
            <a:off x="0" y="2852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quarto S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useo del Novec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olo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8186760" cy="66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9280" y="981000"/>
            <a:ext cx="7239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1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ntroduco l’oggett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he cosa è ? (tipo, genere), come è fatta? (materiali, tecniche), da chi è stata fatta? quando? Perché è lì ? (Storia della trasmission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2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del soggett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dati dell’esperienza comune, che cosa si vede?, che cosa è raffigurato?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CONOGRAF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3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della composizione e delle forme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ome è raffigurato? (discorso più critic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4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storica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per chi è stata fatta?dove? In quale ottica e a che scop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5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Ricomposizione dei dati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he significato ha? Che valore ha? (storia della cultura 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CONOLOG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://www.artdreamguide.com/_arti/boccioni/img/534.jpg"/>
          <p:cNvPicPr/>
          <p:nvPr/>
        </p:nvPicPr>
        <p:blipFill>
          <a:blip r:embed="rId1"/>
          <a:stretch/>
        </p:blipFill>
        <p:spPr>
          <a:xfrm>
            <a:off x="184320" y="272880"/>
            <a:ext cx="5035320" cy="6180480"/>
          </a:xfrm>
          <a:prstGeom prst="rect">
            <a:avLst/>
          </a:prstGeom>
          <a:ln w="0">
            <a:noFill/>
          </a:ln>
        </p:spPr>
      </p:pic>
      <p:sp>
        <p:nvSpPr>
          <p:cNvPr id="308" name="CasellaDiTesto 2"/>
          <p:cNvSpPr/>
          <p:nvPr/>
        </p:nvSpPr>
        <p:spPr>
          <a:xfrm>
            <a:off x="5508720" y="198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 Boccio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issa in Galleri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olo 1" descr=""/>
          <p:cNvPicPr/>
          <p:nvPr/>
        </p:nvPicPr>
        <p:blipFill>
          <a:blip r:embed="rId1"/>
          <a:stretch/>
        </p:blipFill>
        <p:spPr>
          <a:xfrm>
            <a:off x="285840" y="298440"/>
            <a:ext cx="7632720" cy="560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50560" y="1052280"/>
            <a:ext cx="759924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ICONOGRAFIA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:disciplina che studia le immagini con particolare attenzione ai diversi modi in cui i soggetti vengono rappresentati nella storia delle arti figurative. Complesso delle rappresentazioni figurative relative a un determinato personagg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ICONOLOGIA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: analisi che agisce a un livello più profondo cioè studia il significato delle immagini e dei diversi simboli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olo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audenzio Ferrari (Valduggia,1475/80- 1546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iovan Battista della Cerva (Novara?1515-15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Bernardino Lanino (Mortara, 1512-1583 c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aniele Crespi (Busto Arsizio, 1600 – 163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Biagio Bellotti (Busto A, 1714-1789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ietro Antonio Magatti  (Varese, 1691-1767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http://www.to.chiesadimilano.it/or/ADMI/esy/objects/images/156872.jpeg"/>
          <p:cNvPicPr/>
          <p:nvPr/>
        </p:nvPicPr>
        <p:blipFill>
          <a:blip r:embed="rId1"/>
          <a:stretch/>
        </p:blipFill>
        <p:spPr>
          <a:xfrm>
            <a:off x="250920" y="189000"/>
            <a:ext cx="4065480" cy="648324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4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udenzio Ferr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sellaDiTesto 6"/>
          <p:cNvSpPr/>
          <p:nvPr/>
        </p:nvSpPr>
        <p:spPr>
          <a:xfrm>
            <a:off x="4788000" y="220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olittico dell’Ass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6"/>
          <p:cNvSpPr/>
          <p:nvPr/>
        </p:nvSpPr>
        <p:spPr>
          <a:xfrm>
            <a:off x="4788000" y="35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ta Maria di Piazza Busto Ars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ttangolo 1"/>
          <p:cNvSpPr/>
          <p:nvPr/>
        </p:nvSpPr>
        <p:spPr>
          <a:xfrm>
            <a:off x="684360" y="98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www.arte.it/artista/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gaudenzio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-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ferrari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ttangolo 2"/>
          <p:cNvSpPr/>
          <p:nvPr/>
        </p:nvSpPr>
        <p:spPr>
          <a:xfrm>
            <a:off x="755640" y="1989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http://www.treccani.it/enciclopedia/tag/gaudenzio-ferr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sellaDiTesto 3"/>
          <p:cNvSpPr/>
          <p:nvPr/>
        </p:nvSpPr>
        <p:spPr>
          <a:xfrm>
            <a:off x="900000" y="35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i anche file in Pdf di Varese focus sull’attività varesina del Ferr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9280" y="980640"/>
            <a:ext cx="72392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Ferrar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Gaudenzio. - Pittore (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Valduggi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1480 circa -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Mila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1546); a Milano fu, secondo G. P. Lomazzo, presso Stefano Scotto; ma fin dalle tavolette della pinacoteca di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Tori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Padre Eter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e scene della vita dei santi Anna e Gioacchino) il F. appare dominato dall'arte del Bramantino, che egli traduce in un linearismo, di gusto ancor gotico, accordato a effetti coloristici e decorativi (affreschi nella chiesa di S. Maria delle Grazie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Varall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1507-13). In altre opere risentì del Perugino, di Leonardo (specialmente nella 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Pietà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ora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Budapest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), e del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Correggi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. Il suo linearismo, dapprima incisivo, descrive forme più ampie e bizzarre nella cappella del Crocifisso (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Sacro Monte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di Varallo, 1523). Negli affreschi in S. Cristoforo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Vercell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(1532-34), suo capolavoro, il colore appare disteso in larghe superfici cromatiche, indicando il suo interesse per la pittura veneta. I suoi ultimi lavori, del periodo milanese, sono più deboli, salvo gli affreschi già in S. Maria della Pace, ora a Brer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3:07:40Z</dcterms:created>
  <dc:creator>simone</dc:creator>
  <dc:description/>
  <dc:language>en-US</dc:language>
  <cp:lastModifiedBy>isabella.cuccovillo</cp:lastModifiedBy>
  <dcterms:modified xsi:type="dcterms:W3CDTF">2013-05-16T17:21:17Z</dcterms:modified>
  <cp:revision>98</cp:revision>
  <dc:subject/>
  <dc:title>Breve profilo storico della città di Busto Arsizio</dc:title>
</cp:coreProperties>
</file>